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E27-CA1C-4803-9457-19E0694C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FCD-A0E5-460F-907B-88DC5F20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D42-7C49-4FC4-93EC-D723B15B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DD7-70E3-4444-BD81-CA7FE1C0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915-DC68-4592-B60E-F4ACAFA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845-4E01-4503-AE17-6B386BD3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06E-4561-46C2-BDC7-515DFCF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47F-E872-40EA-8B14-3DE87A4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C8C-5894-4329-BE85-A1EA116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6EE-854E-4083-BFAE-D1725FD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33A-FDFA-41AA-AC0B-53C0758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599-69FA-44B2-BDA5-8D04C8A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12F-596F-4B76-9E33-32EA4CEF17A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68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Industrialization  PH RD 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96080" y="1138320"/>
            <a:ext cx="1282680" cy="322200"/>
            <a:chOff x="7696080" y="1138320"/>
            <a:chExt cx="1282680" cy="322200"/>
          </a:xfrm>
        </p:grpSpPr>
        <p:sp>
          <p:nvSpPr>
            <p:cNvPr id="45" name=""/>
            <p:cNvSpPr/>
            <p:nvPr/>
          </p:nvSpPr>
          <p:spPr>
            <a:xfrm>
              <a:off x="7729920" y="12301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96080" y="11383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146052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524720" y="616572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5480" y="1479600"/>
            <a:ext cx="2311200" cy="6238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RD 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Industral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Thonhau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288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L Co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Klaus Kroe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Process&amp;Qu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27484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M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.</a:t>
            </a: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Concept &amp;Technology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Udo Bee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8772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lmut Rieseneg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M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Mech. Product Develo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rtwin Sch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29240" y="5065560"/>
            <a:ext cx="138564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</a:rPr>
              <a:t>IND LP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n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Hermann Becker-Bam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22880" y="506556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L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ayout&amp;Productio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Ralph Mailae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2880" y="3503520"/>
            <a:ext cx="1386000" cy="9558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IND 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Lia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WT 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0"/>
            <a:endCxn id="49" idx="2"/>
          </p:cNvCxnSpPr>
          <p:nvPr/>
        </p:nvCxnSpPr>
        <p:spPr>
          <a:xfrm flipH="1" flipV="1" rot="5400000">
            <a:off x="1934640" y="2409480"/>
            <a:ext cx="2962440" cy="235080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3" idx="0"/>
            <a:endCxn id="49" idx="2"/>
          </p:cNvCxnSpPr>
          <p:nvPr/>
        </p:nvCxnSpPr>
        <p:spPr>
          <a:xfrm flipH="1" flipV="1" rot="5400000">
            <a:off x="2704680" y="3179520"/>
            <a:ext cx="2962440" cy="81072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0"/>
            <a:endCxn id="49" idx="2"/>
          </p:cNvCxnSpPr>
          <p:nvPr/>
        </p:nvCxnSpPr>
        <p:spPr>
          <a:xfrm flipV="1" rot="16200000">
            <a:off x="3475440" y="3219120"/>
            <a:ext cx="2962440" cy="731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0"/>
            <a:endCxn id="49" idx="2"/>
          </p:cNvCxnSpPr>
          <p:nvPr/>
        </p:nvCxnSpPr>
        <p:spPr>
          <a:xfrm flipV="1" rot="16200000">
            <a:off x="4222440" y="2472120"/>
            <a:ext cx="2962440" cy="2225160"/>
          </a:xfrm>
          <a:prstGeom prst="bentConnector3">
            <a:avLst>
              <a:gd name="adj1" fmla="val 497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1" idx="3"/>
            <a:endCxn id="49" idx="2"/>
          </p:cNvCxnSpPr>
          <p:nvPr/>
        </p:nvCxnSpPr>
        <p:spPr>
          <a:xfrm flipV="1">
            <a:off x="2933640" y="2103480"/>
            <a:ext cx="165780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2" idx="3"/>
            <a:endCxn id="49" idx="2"/>
          </p:cNvCxnSpPr>
          <p:nvPr/>
        </p:nvCxnSpPr>
        <p:spPr>
          <a:xfrm flipV="1">
            <a:off x="2933640" y="2103480"/>
            <a:ext cx="165780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1"/>
            <a:endCxn id="49" idx="2"/>
          </p:cNvCxnSpPr>
          <p:nvPr/>
        </p:nvCxnSpPr>
        <p:spPr>
          <a:xfrm rot="10800000">
            <a:off x="4590720" y="2103480"/>
            <a:ext cx="1532160" cy="1878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0" idx="1"/>
            <a:endCxn id="49" idx="2"/>
          </p:cNvCxnSpPr>
          <p:nvPr/>
        </p:nvCxnSpPr>
        <p:spPr>
          <a:xfrm rot="10800000">
            <a:off x="4590720" y="2103120"/>
            <a:ext cx="1532160" cy="64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beeker</cp:lastModifiedBy>
  <dcterms:modified xsi:type="dcterms:W3CDTF">2006-05-23T16:50:28Z</dcterms:modified>
  <cp:revision>135</cp:revision>
  <dc:subject/>
  <dc:title>PowerPoint 簡報</dc:title>
</cp:coreProperties>
</file>